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0175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644560" y="531360"/>
            <a:ext cx="3943080" cy="26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23400" y="3330360"/>
            <a:ext cx="7386840" cy="31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400680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5227560" y="0"/>
            <a:ext cx="400680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9C678-C7E2-424F-A63B-1484CE01C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FB49C-EF81-44E8-8ED3-30B643700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644920" y="531720"/>
            <a:ext cx="3944880" cy="26290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737AD-8B6F-40D9-8A44-5B393D6CD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2644920" y="531720"/>
            <a:ext cx="3944880" cy="26290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23400" y="3330360"/>
            <a:ext cx="73882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5DBCB-291A-459C-8514-9B39E4DC8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644920" y="531720"/>
            <a:ext cx="3944880" cy="2629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23400" y="3330360"/>
            <a:ext cx="73882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72563-DE7B-4F06-A397-899FD9F8A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2644920" y="531720"/>
            <a:ext cx="3944880" cy="26290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23400" y="3330360"/>
            <a:ext cx="73882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440AA-0147-4775-AF54-491CA4168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644920" y="531720"/>
            <a:ext cx="3944880" cy="26290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23400" y="3330360"/>
            <a:ext cx="73882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2D118-4E22-4A23-AABB-039F01948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644920" y="531720"/>
            <a:ext cx="3944880" cy="2629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23400" y="3330360"/>
            <a:ext cx="73882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4D484-B7CD-4AA7-853C-7EE1A37C8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644920" y="531720"/>
            <a:ext cx="3944880" cy="2629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23400" y="3330360"/>
            <a:ext cx="73882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57835-121C-4BEC-BCC2-652F01D94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44920" y="531720"/>
            <a:ext cx="3944880" cy="2629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23400" y="3330360"/>
            <a:ext cx="73882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F85-7D89-40BC-B5E5-0BC3F818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677520"/>
            <a:ext cx="874584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2529720"/>
            <a:ext cx="874584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BD4-EF9C-4C10-83D8-8E1EC24C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6775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6775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25297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25297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BBF-FD45-4A8A-AF2D-E2AD0692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677520"/>
            <a:ext cx="281592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677520"/>
            <a:ext cx="281592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677520"/>
            <a:ext cx="281592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2529720"/>
            <a:ext cx="281592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2529720"/>
            <a:ext cx="281592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2529720"/>
            <a:ext cx="281592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11C-5468-49CE-9BC9-2B8A6DF5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677520"/>
            <a:ext cx="874584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A32-C800-4D67-9B49-F9337A61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677520"/>
            <a:ext cx="874584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41E-EC72-43CF-B0A6-EBF0CC5A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677520"/>
            <a:ext cx="4267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677520"/>
            <a:ext cx="4267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594-E2F7-4639-B823-2E0A6749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4C7-1F73-43BD-89F8-EDEB8DE3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5335200"/>
            <a:ext cx="87458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01C-441F-4557-8473-222D34BC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6775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677520"/>
            <a:ext cx="4267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25297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030-DA22-4A27-90A6-1E4841AF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677520"/>
            <a:ext cx="4267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6775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25297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635-F61A-4FF8-85EF-D3FBB60D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6775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6775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2529720"/>
            <a:ext cx="874584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722-109C-4028-9735-02EA317B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677520"/>
            <a:ext cx="874584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2000"/>
          </a:bodyPr>
          <a:p>
            <a:pPr marL="2811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4606560"/>
            <a:ext cx="22622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4606560"/>
            <a:ext cx="3079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4606560"/>
            <a:ext cx="22622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2ED024-526A-4606-B855-25409DC57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85640" y="677880"/>
            <a:ext cx="874728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</a:rPr>
              <a:t>Six options for the field t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</a:rPr>
              <a:t>Elmersville has recently acquired near downtown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5640" y="538164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tion 1: Public Par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613560" cy="463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5250960"/>
            <a:ext cx="87472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tion 2: New Elementary Schoo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11360" y="958680"/>
            <a:ext cx="6161040" cy="407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640" y="538164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tion 3: Office Build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143000" y="608040"/>
            <a:ext cx="7439040" cy="487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640" y="538164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tion 4: City Garbage Dum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224000" y="576360"/>
            <a:ext cx="7005600" cy="4910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538164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tion 5: Low Income Hous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09560" y="914400"/>
            <a:ext cx="7826400" cy="436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640" y="538164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tion 6: Shopping Mal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6026040" cy="448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5640" y="677520"/>
            <a:ext cx="874728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Ac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8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in your group the costs for each option, then use Visual Ranking Tool to rank the options, as a group, from most costly to l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1T21:50:53Z</dcterms:created>
  <dc:creator>Louis Guptill</dc:creator>
  <dc:description>Presentation Layout Template</dc:description>
  <dc:language>en-US</dc:language>
  <cp:lastModifiedBy>profile</cp:lastModifiedBy>
  <dcterms:modified xsi:type="dcterms:W3CDTF">2010-08-17T19:25:03Z</dcterms:modified>
  <cp:revision>2</cp:revision>
  <dc:subject/>
  <dc:title>Blue with Bottom Title </dc:title>
</cp:coreProperties>
</file>